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30EE-770B-420A-8609-4CFF6B0AE7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E9A3-ECC2-4709-B2EA-131884FCA4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4D8F-D13A-415C-9C67-EE2D96B0FF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FD33-122B-467C-B726-4CAFA79E88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44C-6BD8-4D97-91A6-00703E06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829D-AA75-49B8-B876-E2B2E67F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BF0D-F2A5-40AF-8863-B8287E7F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7A2E-137B-4B25-9C5C-DE55DD0C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35B-D3E0-498D-9D94-57345794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E0F-EDB8-4D46-8189-245D777A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E44B-35DE-4957-8C4A-C3F8554B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E8F-9821-4C67-8E22-B89D6417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B387-980B-41CC-832C-532844EC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950-A02A-4F17-80F6-8E451594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1FA-557E-4A32-A63F-650BC6E3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B0B-B124-4DF0-9FC1-F9FD68EB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711E-03A6-4159-827B-69DB4769F9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457200" y="6858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Чему равна площадь поверхности куба с ребром 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32"/>
          <p:cNvSpPr/>
          <p:nvPr/>
        </p:nvSpPr>
        <p:spPr>
          <a:xfrm>
            <a:off x="914400" y="54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36" descr=""/>
          <p:cNvPicPr/>
          <p:nvPr/>
        </p:nvPicPr>
        <p:blipFill>
          <a:blip r:embed="rId1"/>
          <a:stretch/>
        </p:blipFill>
        <p:spPr>
          <a:xfrm>
            <a:off x="3278160" y="2135160"/>
            <a:ext cx="258624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57200" y="6858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Найдите площадь боковой поверхности правильной шестиугольной призмы, сторона основания которой равна 5 см, а высота 10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914400" y="54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300 см</a:t>
            </a:r>
            <a:r>
              <a:rPr b="0" lang="ru-RU" sz="28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400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57200" y="6858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Основанием прямой треугольной призмы служит прямоугольный треугольник с катетами 3 см и 4 см, высота призмы равна 10 см. Найдите площадь поверхности данной приз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14400" y="54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132 см</a:t>
            </a:r>
            <a:r>
              <a:rPr b="0" lang="ru-RU" sz="28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250056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6:10:49Z</dcterms:created>
  <dc:creator>*</dc:creator>
  <dc:description/>
  <dc:language>en-US</dc:language>
  <cp:lastModifiedBy>Юрий</cp:lastModifiedBy>
  <dcterms:modified xsi:type="dcterms:W3CDTF">2013-03-18T07:07:50Z</dcterms:modified>
  <cp:revision>30</cp:revision>
  <dc:subject/>
  <dc:title>Объем фигур в пространстве</dc:title>
</cp:coreProperties>
</file>